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CE8B-E74D-40F2-B528-4717C3D9E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6258-878F-4B95-868F-25EA12F0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5CDE-F216-41F9-A1EB-29A9C3754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5EEA-6041-4FFA-B3C4-DF456A152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7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5400" y="455760"/>
            <a:ext cx="8227800" cy="24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7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E907-3C4B-46B9-A3FC-51A2F149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748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956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540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748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956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3371-9D8F-4B9A-B806-42843728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7638-2C0B-4412-AB27-D69A273B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706D-39DD-4C8B-A32F-B633FE21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455760"/>
            <a:ext cx="8227800" cy="24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7D2D-569D-415A-AF5C-487AEAF0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B675-7B3C-4CE4-80FF-C3B6C0F0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6653-EC01-4958-A5C3-A1AC3790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A2DA-9639-400B-860D-9922A411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marL="1713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1" marL="5144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2" marL="8571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Wingdings" charset="2"/>
              <a:buChar char="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8280" y="4735440"/>
            <a:ext cx="2025720" cy="238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8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87720" y="4735440"/>
            <a:ext cx="2968560" cy="238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57480" y="4735440"/>
            <a:ext cx="2025720" cy="238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8C5E250A-342A-4DF2-8293-B325576BCE2A}" type="slidenum">
              <a:rPr b="0" lang="zh-CN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marL="1713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1" marL="5144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2" marL="8571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Wingdings" charset="2"/>
              <a:buChar char="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-9360" y="3648240"/>
            <a:ext cx="9162720" cy="419040"/>
          </a:xfrm>
          <a:prstGeom prst="rect">
            <a:avLst/>
          </a:prstGeom>
          <a:solidFill>
            <a:srgbClr val="2169d3"/>
          </a:solidFill>
          <a:ln w="12600">
            <a:solidFill>
              <a:srgbClr val="2169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28"/>
          <p:cNvSpPr/>
          <p:nvPr/>
        </p:nvSpPr>
        <p:spPr>
          <a:xfrm>
            <a:off x="1577880" y="3005280"/>
            <a:ext cx="5989680" cy="13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066680"/>
                <a:tab algn="l" pos="15192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容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066680"/>
                <a:tab algn="l" pos="15192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任务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容器的运行与维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066680"/>
                <a:tab algn="l" pos="15192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讲人：许昭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5"/>
          <p:cNvSpPr/>
          <p:nvPr/>
        </p:nvSpPr>
        <p:spPr>
          <a:xfrm>
            <a:off x="-11160" y="3240"/>
            <a:ext cx="9148680" cy="2014560"/>
          </a:xfrm>
          <a:custGeom>
            <a:avLst/>
            <a:gdLst/>
            <a:ahLst/>
            <a:rect l="l" t="t" r="r" b="b"/>
            <a:pathLst>
              <a:path w="1259" h="291">
                <a:moveTo>
                  <a:pt x="0" y="0"/>
                </a:moveTo>
                <a:cubicBezTo>
                  <a:pt x="28" y="129"/>
                  <a:pt x="28" y="129"/>
                  <a:pt x="28" y="129"/>
                </a:cubicBezTo>
                <a:cubicBezTo>
                  <a:pt x="28" y="129"/>
                  <a:pt x="42" y="172"/>
                  <a:pt x="98" y="183"/>
                </a:cubicBezTo>
                <a:cubicBezTo>
                  <a:pt x="570" y="278"/>
                  <a:pt x="570" y="278"/>
                  <a:pt x="570" y="278"/>
                </a:cubicBezTo>
                <a:cubicBezTo>
                  <a:pt x="570" y="278"/>
                  <a:pt x="623" y="291"/>
                  <a:pt x="685" y="278"/>
                </a:cubicBezTo>
                <a:cubicBezTo>
                  <a:pt x="1018" y="211"/>
                  <a:pt x="1018" y="211"/>
                  <a:pt x="1018" y="211"/>
                </a:cubicBezTo>
                <a:cubicBezTo>
                  <a:pt x="1161" y="182"/>
                  <a:pt x="1161" y="182"/>
                  <a:pt x="1161" y="182"/>
                </a:cubicBezTo>
                <a:cubicBezTo>
                  <a:pt x="1161" y="182"/>
                  <a:pt x="1227" y="167"/>
                  <a:pt x="1236" y="119"/>
                </a:cubicBezTo>
                <a:cubicBezTo>
                  <a:pt x="1259" y="0"/>
                  <a:pt x="1259" y="0"/>
                  <a:pt x="125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1f6d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36" descr=""/>
          <p:cNvPicPr/>
          <p:nvPr/>
        </p:nvPicPr>
        <p:blipFill>
          <a:blip r:embed="rId1"/>
          <a:srcRect l="0" t="0" r="0" b="25548"/>
          <a:stretch/>
        </p:blipFill>
        <p:spPr>
          <a:xfrm>
            <a:off x="3726000" y="1136520"/>
            <a:ext cx="1692000" cy="160200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3"/>
          <p:cNvSpPr/>
          <p:nvPr/>
        </p:nvSpPr>
        <p:spPr>
          <a:xfrm>
            <a:off x="3299400" y="5554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黑体"/>
                <a:ea typeface="黑体"/>
              </a:rPr>
              <a:t>郑州电力职业技术学院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en-US" sz="700" spc="-1" strike="noStrike">
                <a:solidFill>
                  <a:srgbClr val="ffffff"/>
                </a:solidFill>
                <a:latin typeface="黑体"/>
                <a:ea typeface="黑体"/>
              </a:rPr>
              <a:t>ZHENGZHOU ELECTRIC POWER TECHNOLOGY COLLE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6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-(width-0)*(1-$)^6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-(width-0)*(1-$)^6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  <p:to>
                                        <p:strVal val=""/>
                                      </p:to>
                                    </p:anim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37" name="文本框 5"/>
          <p:cNvSpPr/>
          <p:nvPr/>
        </p:nvSpPr>
        <p:spPr>
          <a:xfrm>
            <a:off x="4350240" y="136440"/>
            <a:ext cx="4431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维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3"/>
          <p:cNvSpPr/>
          <p:nvPr/>
        </p:nvSpPr>
        <p:spPr>
          <a:xfrm>
            <a:off x="880920" y="682560"/>
            <a:ext cx="1481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红外检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图片 4" descr="红外检测"/>
          <p:cNvPicPr/>
          <p:nvPr/>
        </p:nvPicPr>
        <p:blipFill>
          <a:blip r:embed="rId2"/>
          <a:stretch/>
        </p:blipFill>
        <p:spPr>
          <a:xfrm>
            <a:off x="1222200" y="1255680"/>
            <a:ext cx="575820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42" name="文本框 5"/>
          <p:cNvSpPr/>
          <p:nvPr/>
        </p:nvSpPr>
        <p:spPr>
          <a:xfrm>
            <a:off x="3817080" y="136440"/>
            <a:ext cx="15098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典型故障和异常处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671400" y="681120"/>
            <a:ext cx="2121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电容器故障跳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图片 7" descr="电容器故障跳闸"/>
          <p:cNvPicPr/>
          <p:nvPr/>
        </p:nvPicPr>
        <p:blipFill>
          <a:blip r:embed="rId2"/>
          <a:stretch/>
        </p:blipFill>
        <p:spPr>
          <a:xfrm>
            <a:off x="987480" y="1131840"/>
            <a:ext cx="5518080" cy="35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47" name="文本框 5"/>
          <p:cNvSpPr/>
          <p:nvPr/>
        </p:nvSpPr>
        <p:spPr>
          <a:xfrm>
            <a:off x="3817080" y="136440"/>
            <a:ext cx="15098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典型故障和异常处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3"/>
          <p:cNvSpPr/>
          <p:nvPr/>
        </p:nvSpPr>
        <p:spPr>
          <a:xfrm>
            <a:off x="671400" y="681120"/>
            <a:ext cx="2121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不平衡保护告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图片 4" descr="不平衡保护告警"/>
          <p:cNvPicPr/>
          <p:nvPr/>
        </p:nvPicPr>
        <p:blipFill>
          <a:blip r:embed="rId2"/>
          <a:stretch/>
        </p:blipFill>
        <p:spPr>
          <a:xfrm>
            <a:off x="1008000" y="1181160"/>
            <a:ext cx="404676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52" name="文本框 5"/>
          <p:cNvSpPr/>
          <p:nvPr/>
        </p:nvSpPr>
        <p:spPr>
          <a:xfrm>
            <a:off x="3817080" y="136440"/>
            <a:ext cx="15098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典型故障和异常处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3"/>
          <p:cNvSpPr/>
          <p:nvPr/>
        </p:nvSpPr>
        <p:spPr>
          <a:xfrm>
            <a:off x="671400" y="681120"/>
            <a:ext cx="3313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壳体破裂、漏油、膨胀变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6" descr="壳体破裂、漏油、膨胀变形"/>
          <p:cNvPicPr/>
          <p:nvPr/>
        </p:nvPicPr>
        <p:blipFill>
          <a:blip r:embed="rId2"/>
          <a:stretch/>
        </p:blipFill>
        <p:spPr>
          <a:xfrm>
            <a:off x="993600" y="1177920"/>
            <a:ext cx="534528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57" name="文本框 5"/>
          <p:cNvSpPr/>
          <p:nvPr/>
        </p:nvSpPr>
        <p:spPr>
          <a:xfrm>
            <a:off x="3817080" y="136440"/>
            <a:ext cx="15098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典型故障和异常处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3"/>
          <p:cNvSpPr/>
          <p:nvPr/>
        </p:nvSpPr>
        <p:spPr>
          <a:xfrm>
            <a:off x="671400" y="681120"/>
            <a:ext cx="1481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声音异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图片 4" descr="声音异常"/>
          <p:cNvPicPr/>
          <p:nvPr/>
        </p:nvPicPr>
        <p:blipFill>
          <a:blip r:embed="rId2"/>
          <a:stretch/>
        </p:blipFill>
        <p:spPr>
          <a:xfrm>
            <a:off x="1001880" y="1181160"/>
            <a:ext cx="457668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62" name="文本框 5"/>
          <p:cNvSpPr/>
          <p:nvPr/>
        </p:nvSpPr>
        <p:spPr>
          <a:xfrm>
            <a:off x="3817080" y="136440"/>
            <a:ext cx="15098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典型故障和异常处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3"/>
          <p:cNvSpPr/>
          <p:nvPr/>
        </p:nvSpPr>
        <p:spPr>
          <a:xfrm>
            <a:off x="671400" y="681120"/>
            <a:ext cx="1481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瓷套异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图片 7" descr="瓷套异常"/>
          <p:cNvPicPr/>
          <p:nvPr/>
        </p:nvPicPr>
        <p:blipFill>
          <a:blip r:embed="rId2"/>
          <a:stretch/>
        </p:blipFill>
        <p:spPr>
          <a:xfrm>
            <a:off x="1001880" y="1227240"/>
            <a:ext cx="510840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67" name="文本框 5"/>
          <p:cNvSpPr/>
          <p:nvPr/>
        </p:nvSpPr>
        <p:spPr>
          <a:xfrm>
            <a:off x="3817080" y="136440"/>
            <a:ext cx="15098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典型故障和异常处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3"/>
          <p:cNvSpPr/>
          <p:nvPr/>
        </p:nvSpPr>
        <p:spPr>
          <a:xfrm>
            <a:off x="671400" y="681120"/>
            <a:ext cx="1481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温度异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图片 4" descr="温度异常"/>
          <p:cNvPicPr/>
          <p:nvPr/>
        </p:nvPicPr>
        <p:blipFill>
          <a:blip r:embed="rId2"/>
          <a:stretch/>
        </p:blipFill>
        <p:spPr>
          <a:xfrm>
            <a:off x="1050840" y="1219320"/>
            <a:ext cx="519444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72" name="文本框 5"/>
          <p:cNvSpPr/>
          <p:nvPr/>
        </p:nvSpPr>
        <p:spPr>
          <a:xfrm>
            <a:off x="3817080" y="136440"/>
            <a:ext cx="15098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典型故障和异常处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3"/>
          <p:cNvSpPr/>
          <p:nvPr/>
        </p:nvSpPr>
        <p:spPr>
          <a:xfrm>
            <a:off x="671400" y="681120"/>
            <a:ext cx="1481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冒烟着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图片 6" descr="冒烟着火"/>
          <p:cNvPicPr/>
          <p:nvPr/>
        </p:nvPicPr>
        <p:blipFill>
          <a:blip r:embed="rId2"/>
          <a:stretch/>
        </p:blipFill>
        <p:spPr>
          <a:xfrm>
            <a:off x="1011240" y="1200240"/>
            <a:ext cx="5075280" cy="27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reeform 5"/>
          <p:cNvSpPr/>
          <p:nvPr/>
        </p:nvSpPr>
        <p:spPr>
          <a:xfrm>
            <a:off x="-11160" y="3240"/>
            <a:ext cx="9148680" cy="2014560"/>
          </a:xfrm>
          <a:custGeom>
            <a:avLst/>
            <a:gdLst/>
            <a:ahLst/>
            <a:rect l="l" t="t" r="r" b="b"/>
            <a:pathLst>
              <a:path w="1259" h="291">
                <a:moveTo>
                  <a:pt x="0" y="0"/>
                </a:moveTo>
                <a:cubicBezTo>
                  <a:pt x="28" y="129"/>
                  <a:pt x="28" y="129"/>
                  <a:pt x="28" y="129"/>
                </a:cubicBezTo>
                <a:cubicBezTo>
                  <a:pt x="28" y="129"/>
                  <a:pt x="42" y="172"/>
                  <a:pt x="98" y="183"/>
                </a:cubicBezTo>
                <a:cubicBezTo>
                  <a:pt x="570" y="278"/>
                  <a:pt x="570" y="278"/>
                  <a:pt x="570" y="278"/>
                </a:cubicBezTo>
                <a:cubicBezTo>
                  <a:pt x="570" y="278"/>
                  <a:pt x="623" y="291"/>
                  <a:pt x="685" y="278"/>
                </a:cubicBezTo>
                <a:cubicBezTo>
                  <a:pt x="1018" y="211"/>
                  <a:pt x="1018" y="211"/>
                  <a:pt x="1018" y="211"/>
                </a:cubicBezTo>
                <a:cubicBezTo>
                  <a:pt x="1161" y="182"/>
                  <a:pt x="1161" y="182"/>
                  <a:pt x="1161" y="182"/>
                </a:cubicBezTo>
                <a:cubicBezTo>
                  <a:pt x="1161" y="182"/>
                  <a:pt x="1227" y="167"/>
                  <a:pt x="1236" y="119"/>
                </a:cubicBezTo>
                <a:cubicBezTo>
                  <a:pt x="1259" y="0"/>
                  <a:pt x="1259" y="0"/>
                  <a:pt x="125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1f6d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图片 36" descr=""/>
          <p:cNvPicPr/>
          <p:nvPr/>
        </p:nvPicPr>
        <p:blipFill>
          <a:blip r:embed="rId1"/>
          <a:srcRect l="0" t="0" r="0" b="25548"/>
          <a:stretch/>
        </p:blipFill>
        <p:spPr>
          <a:xfrm>
            <a:off x="3724200" y="1173240"/>
            <a:ext cx="1692360" cy="1601640"/>
          </a:xfrm>
          <a:prstGeom prst="rect">
            <a:avLst/>
          </a:prstGeom>
          <a:ln w="0">
            <a:noFill/>
          </a:ln>
        </p:spPr>
      </p:pic>
      <p:sp>
        <p:nvSpPr>
          <p:cNvPr id="177" name="矩形 14"/>
          <p:cNvSpPr/>
          <p:nvPr/>
        </p:nvSpPr>
        <p:spPr>
          <a:xfrm>
            <a:off x="-9360" y="3432240"/>
            <a:ext cx="9162720" cy="635040"/>
          </a:xfrm>
          <a:prstGeom prst="rect">
            <a:avLst/>
          </a:prstGeom>
          <a:solidFill>
            <a:srgbClr val="2169d3"/>
          </a:solidFill>
          <a:ln w="12600">
            <a:solidFill>
              <a:srgbClr val="2169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bject 2"/>
          <p:cNvSpPr/>
          <p:nvPr/>
        </p:nvSpPr>
        <p:spPr>
          <a:xfrm>
            <a:off x="2705040" y="3489480"/>
            <a:ext cx="421956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360"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谢谢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 you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4"/>
          <p:cNvSpPr/>
          <p:nvPr/>
        </p:nvSpPr>
        <p:spPr>
          <a:xfrm>
            <a:off x="3299400" y="5554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黑体"/>
                <a:ea typeface="黑体"/>
              </a:rPr>
              <a:t>郑州电力职业技术学院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en-US" sz="700" spc="-1" strike="noStrike">
                <a:solidFill>
                  <a:srgbClr val="ffffff"/>
                </a:solidFill>
                <a:latin typeface="黑体"/>
                <a:ea typeface="黑体"/>
              </a:rPr>
              <a:t>ZHENGZHOU ELECTRIC POWER TECHNOLOGY COLLE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MH_SubTitle_2"/>
          <p:cNvSpPr/>
          <p:nvPr/>
        </p:nvSpPr>
        <p:spPr>
          <a:xfrm>
            <a:off x="4451400" y="1982880"/>
            <a:ext cx="3560760" cy="51264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巡视及操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MH_Other_1"/>
          <p:cNvSpPr/>
          <p:nvPr/>
        </p:nvSpPr>
        <p:spPr>
          <a:xfrm flipV="1">
            <a:off x="2901960" y="1393920"/>
            <a:ext cx="1549440" cy="87768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MH_Other_2"/>
          <p:cNvSpPr/>
          <p:nvPr/>
        </p:nvSpPr>
        <p:spPr>
          <a:xfrm flipV="1">
            <a:off x="3048120" y="2271240"/>
            <a:ext cx="1401480" cy="29700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MH_SubTitle_1"/>
          <p:cNvSpPr/>
          <p:nvPr/>
        </p:nvSpPr>
        <p:spPr>
          <a:xfrm>
            <a:off x="4449600" y="1133640"/>
            <a:ext cx="3562560" cy="51264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运行规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MH_SubTitle_3"/>
          <p:cNvSpPr/>
          <p:nvPr/>
        </p:nvSpPr>
        <p:spPr>
          <a:xfrm>
            <a:off x="4451400" y="3681360"/>
            <a:ext cx="3560760" cy="50976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典型故障和异常处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MH_Other_5"/>
          <p:cNvSpPr/>
          <p:nvPr/>
        </p:nvSpPr>
        <p:spPr>
          <a:xfrm>
            <a:off x="1092240" y="1685880"/>
            <a:ext cx="1955880" cy="1954080"/>
          </a:xfrm>
          <a:prstGeom prst="ellipse">
            <a:avLst/>
          </a:prstGeom>
          <a:solidFill>
            <a:srgbClr val="bfd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MH_Title_1"/>
          <p:cNvSpPr/>
          <p:nvPr/>
        </p:nvSpPr>
        <p:spPr>
          <a:xfrm>
            <a:off x="1311120" y="1905120"/>
            <a:ext cx="1519560" cy="1519200"/>
          </a:xfrm>
          <a:prstGeom prst="ellipse">
            <a:avLst/>
          </a:prstGeom>
          <a:solidFill>
            <a:srgbClr val="1f6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100" spc="-1" strike="noStrike">
                <a:solidFill>
                  <a:srgbClr val="ffffff"/>
                </a:solidFill>
                <a:latin typeface="Arial"/>
              </a:rPr>
              <a:t>目录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93" name="文本框 14"/>
          <p:cNvSpPr/>
          <p:nvPr/>
        </p:nvSpPr>
        <p:spPr>
          <a:xfrm>
            <a:off x="3679920" y="123840"/>
            <a:ext cx="17841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1f6dd1"/>
                </a:solidFill>
                <a:latin typeface="微软雅黑"/>
              </a:rPr>
              <a:t>电容器的运行与维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MH_SubTitle_2"/>
          <p:cNvSpPr/>
          <p:nvPr/>
        </p:nvSpPr>
        <p:spPr>
          <a:xfrm>
            <a:off x="4451400" y="2832120"/>
            <a:ext cx="3560760" cy="51120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维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MH_Other_2"/>
          <p:cNvSpPr/>
          <p:nvPr/>
        </p:nvSpPr>
        <p:spPr>
          <a:xfrm>
            <a:off x="2901960" y="3076560"/>
            <a:ext cx="1547640" cy="90000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MH_Other_2"/>
          <p:cNvSpPr/>
          <p:nvPr/>
        </p:nvSpPr>
        <p:spPr>
          <a:xfrm>
            <a:off x="2989440" y="2808360"/>
            <a:ext cx="1460160" cy="27936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6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6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6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6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6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6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99" name="文本框 4"/>
          <p:cNvSpPr/>
          <p:nvPr/>
        </p:nvSpPr>
        <p:spPr>
          <a:xfrm>
            <a:off x="847800" y="519120"/>
            <a:ext cx="13158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一般规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5"/>
          <p:cNvSpPr/>
          <p:nvPr/>
        </p:nvSpPr>
        <p:spPr>
          <a:xfrm>
            <a:off x="4197960" y="136440"/>
            <a:ext cx="74772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运行规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3" descr="一般规定1"/>
          <p:cNvPicPr/>
          <p:nvPr/>
        </p:nvPicPr>
        <p:blipFill>
          <a:blip r:embed="rId2"/>
          <a:stretch/>
        </p:blipFill>
        <p:spPr>
          <a:xfrm>
            <a:off x="1077840" y="933480"/>
            <a:ext cx="482148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04" name="文本框 4"/>
          <p:cNvSpPr/>
          <p:nvPr/>
        </p:nvSpPr>
        <p:spPr>
          <a:xfrm>
            <a:off x="847800" y="519120"/>
            <a:ext cx="13158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一般规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5"/>
          <p:cNvSpPr/>
          <p:nvPr/>
        </p:nvSpPr>
        <p:spPr>
          <a:xfrm>
            <a:off x="4197960" y="136440"/>
            <a:ext cx="74772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运行规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图片 7" descr="一般规定2"/>
          <p:cNvPicPr/>
          <p:nvPr/>
        </p:nvPicPr>
        <p:blipFill>
          <a:blip r:embed="rId2"/>
          <a:stretch/>
        </p:blipFill>
        <p:spPr>
          <a:xfrm>
            <a:off x="1042920" y="1003320"/>
            <a:ext cx="5283360" cy="262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1201680" y="3630600"/>
          <a:ext cx="4479840" cy="1219320"/>
        </p:xfrm>
        <a:graphic>
          <a:graphicData uri="http://schemas.openxmlformats.org/drawingml/2006/table">
            <a:tbl>
              <a:tblPr/>
              <a:tblGrid>
                <a:gridCol w="1366920"/>
                <a:gridCol w="1517760"/>
                <a:gridCol w="1595160"/>
              </a:tblGrid>
              <a:tr h="336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过电压倍数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Ug/U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持续时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说明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连续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  <a:tr h="177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每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h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每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h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m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系统电压调整与波动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m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轻荷载时电压升高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m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10" name="文本框 4"/>
          <p:cNvSpPr/>
          <p:nvPr/>
        </p:nvSpPr>
        <p:spPr>
          <a:xfrm>
            <a:off x="847800" y="623880"/>
            <a:ext cx="227808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紧急申请停运规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5"/>
          <p:cNvSpPr/>
          <p:nvPr/>
        </p:nvSpPr>
        <p:spPr>
          <a:xfrm>
            <a:off x="4197960" y="136440"/>
            <a:ext cx="74772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运行规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图片 3" descr="紧急申请停运规定"/>
          <p:cNvPicPr/>
          <p:nvPr/>
        </p:nvPicPr>
        <p:blipFill>
          <a:blip r:embed="rId2"/>
          <a:stretch/>
        </p:blipFill>
        <p:spPr>
          <a:xfrm>
            <a:off x="1109520" y="1189080"/>
            <a:ext cx="5448600" cy="23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15" name="文本框 5"/>
          <p:cNvSpPr/>
          <p:nvPr/>
        </p:nvSpPr>
        <p:spPr>
          <a:xfrm>
            <a:off x="4121640" y="136440"/>
            <a:ext cx="9003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巡视及操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/>
          <p:cNvSpPr/>
          <p:nvPr/>
        </p:nvSpPr>
        <p:spPr>
          <a:xfrm>
            <a:off x="880920" y="507960"/>
            <a:ext cx="1536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例行巡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3" descr="例行巡视"/>
          <p:cNvPicPr/>
          <p:nvPr/>
        </p:nvPicPr>
        <p:blipFill>
          <a:blip r:embed="rId2"/>
          <a:stretch/>
        </p:blipFill>
        <p:spPr>
          <a:xfrm>
            <a:off x="1268280" y="1031760"/>
            <a:ext cx="5457960" cy="38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20" name="文本框 5"/>
          <p:cNvSpPr/>
          <p:nvPr/>
        </p:nvSpPr>
        <p:spPr>
          <a:xfrm>
            <a:off x="4121640" y="136440"/>
            <a:ext cx="9003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巡视及操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6"/>
          <p:cNvSpPr/>
          <p:nvPr/>
        </p:nvSpPr>
        <p:spPr>
          <a:xfrm>
            <a:off x="880920" y="606600"/>
            <a:ext cx="1536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全面巡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图片 4" descr="全面巡视"/>
          <p:cNvPicPr/>
          <p:nvPr/>
        </p:nvPicPr>
        <p:blipFill>
          <a:blip r:embed="rId2"/>
          <a:stretch/>
        </p:blipFill>
        <p:spPr>
          <a:xfrm>
            <a:off x="1219320" y="1206360"/>
            <a:ext cx="5556240" cy="1586160"/>
          </a:xfrm>
          <a:prstGeom prst="rect">
            <a:avLst/>
          </a:prstGeom>
          <a:ln w="0">
            <a:noFill/>
          </a:ln>
        </p:spPr>
      </p:pic>
      <p:sp>
        <p:nvSpPr>
          <p:cNvPr id="123" name="矩形 7"/>
          <p:cNvSpPr/>
          <p:nvPr/>
        </p:nvSpPr>
        <p:spPr>
          <a:xfrm>
            <a:off x="880920" y="2838600"/>
            <a:ext cx="1536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熄灯巡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8" descr="熄灯巡视"/>
          <p:cNvPicPr/>
          <p:nvPr/>
        </p:nvPicPr>
        <p:blipFill>
          <a:blip r:embed="rId3"/>
          <a:stretch/>
        </p:blipFill>
        <p:spPr>
          <a:xfrm>
            <a:off x="1219320" y="3510000"/>
            <a:ext cx="396720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27" name="文本框 5"/>
          <p:cNvSpPr/>
          <p:nvPr/>
        </p:nvSpPr>
        <p:spPr>
          <a:xfrm>
            <a:off x="4121640" y="136440"/>
            <a:ext cx="9003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巡视及操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6"/>
          <p:cNvSpPr/>
          <p:nvPr/>
        </p:nvSpPr>
        <p:spPr>
          <a:xfrm>
            <a:off x="880920" y="477720"/>
            <a:ext cx="1536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特殊巡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图片 4" descr="特殊巡视"/>
          <p:cNvPicPr/>
          <p:nvPr/>
        </p:nvPicPr>
        <p:blipFill>
          <a:blip r:embed="rId2"/>
          <a:stretch/>
        </p:blipFill>
        <p:spPr>
          <a:xfrm>
            <a:off x="1268280" y="914400"/>
            <a:ext cx="4330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32" name="文本框 5"/>
          <p:cNvSpPr/>
          <p:nvPr/>
        </p:nvSpPr>
        <p:spPr>
          <a:xfrm>
            <a:off x="4121640" y="136440"/>
            <a:ext cx="9003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巡视及操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6"/>
          <p:cNvSpPr/>
          <p:nvPr/>
        </p:nvSpPr>
        <p:spPr>
          <a:xfrm>
            <a:off x="880920" y="542880"/>
            <a:ext cx="986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操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图片 3" descr="操作"/>
          <p:cNvPicPr/>
          <p:nvPr/>
        </p:nvPicPr>
        <p:blipFill>
          <a:blip r:embed="rId2"/>
          <a:stretch/>
        </p:blipFill>
        <p:spPr>
          <a:xfrm>
            <a:off x="1143000" y="960480"/>
            <a:ext cx="582768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19T02:08:00Z</dcterms:created>
  <dc:creator>Administrator</dc:creator>
  <dc:description/>
  <dc:language>en-US</dc:language>
  <cp:lastModifiedBy>Administrator</cp:lastModifiedBy>
  <dcterms:modified xsi:type="dcterms:W3CDTF">2021-12-09T08:23:03Z</dcterms:modified>
  <cp:revision>60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A83A48BAB32245D4A6C98478441FAD95</vt:lpwstr>
  </property>
  <property fmtid="{D5CDD505-2E9C-101B-9397-08002B2CF9AE}" pid="3" name="KSOProductBuildVer">
    <vt:lpwstr>2052-11.1.0.10667</vt:lpwstr>
  </property>
</Properties>
</file>